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hat is the unit in each case?  10, 1/3, x – same thinking (7+3)x = 11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tudent used doubling, then adding, then distributive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tudent shows understanding of equivalence (a=b, c=d, a+c=b+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 minute to think, then turn and ta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5 minutes, then turn and ta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Listening is where communication st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he learning community works through the synergy of shared thin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Listening is how you “know the learne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You can’t respond without list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e will use this during our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FEBD7-54F5-42D6-BE24-C5C36A8ECD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7258D-5021-46F9-8401-D0037CFF45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14894-3DDE-4219-8002-C16DAF2D4C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34687-CCC6-4BF0-974C-105F41BB53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3F927-DA1D-484B-9E38-1F8A4840F4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F3882-D55D-4F17-ACD4-BD9AD4DFAC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C6769-9C91-464F-BA0B-DB997B16D9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5CCA7-9C20-4EFD-85EB-5A1A2E13F9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AA142-6C68-4C30-8B28-10294D4C04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33955-4F7D-450C-BD40-6281F3CD48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2FFD1-14D1-4169-9FD3-5515281096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51803-7C4C-4072-BC36-8AD3431EB7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8E645-5DD0-483B-B7A5-951E2C826F5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eaching_History_JERRY_SEINFELD_SNL_.mov" TargetMode="External"/><Relationship Id="rId2" Type="http://schemas.openxmlformats.org/officeDocument/2006/relationships/hyperlink" Target="file:///PeerFeedbackMathTalkSmall.wmv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1F00E-20B7-4024-8585-D04BD19E63E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1600200"/>
            <a:ext cx="807696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2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Breakout Session 4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Gr. 9-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259092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Learning Activity: 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1. To understand how work with fractions supports  relational thinking and algebraic reason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2. To explore the area model to represent part to whole relationships and fraction oper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3.  To practice interpretive listening and responding as students and teac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1FD8F-F8DD-44FF-BA70-D64A86ADD68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2b5ca9"/>
                </a:solidFill>
                <a:latin typeface="Arial"/>
              </a:rPr>
              <a:t>Conceptual Understanding Matters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ractions offer students the opportunity to grapple with fundamental mathematical relationships that constitute the core of Algebra”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ight integration of number and oper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ex.          is 2 plus   ,  it is also 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ex.    is 3 divided by 5, it is also 3 times     ,  it has a value of 0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16465-8022-4E94-8E9D-11F299DA60F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1"/>
              <p:cNvSpPr txBox="1"/>
              <p:nvPr/>
            </p:nvSpPr>
            <p:spPr>
              <a:xfrm>
                <a:off x="1828800" y="4876920"/>
                <a:ext cx="177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3"/>
              <p:cNvSpPr txBox="1"/>
              <p:nvPr/>
            </p:nvSpPr>
            <p:spPr>
              <a:xfrm>
                <a:off x="5892840" y="4940280"/>
                <a:ext cx="177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4"/>
              <p:cNvSpPr txBox="1"/>
              <p:nvPr/>
            </p:nvSpPr>
            <p:spPr>
              <a:xfrm>
                <a:off x="2050920" y="4095720"/>
                <a:ext cx="3430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ct 5"/>
              <p:cNvSpPr txBox="1"/>
              <p:nvPr/>
            </p:nvSpPr>
            <p:spPr>
              <a:xfrm>
                <a:off x="3441600" y="4095720"/>
                <a:ext cx="1904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" name="TextBox 6"/>
          <p:cNvSpPr/>
          <p:nvPr/>
        </p:nvSpPr>
        <p:spPr>
          <a:xfrm>
            <a:off x="4038480" y="2971800"/>
            <a:ext cx="4953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6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200" spc="-1" strike="noStrike">
                <a:solidFill>
                  <a:srgbClr val="000000"/>
                </a:solidFill>
                <a:latin typeface="Arial"/>
              </a:rPr>
              <a:t>Extending Children's Mathematics Fractions and Decimals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200" spc="-1" strike="noStrike">
                <a:solidFill>
                  <a:srgbClr val="000000"/>
                </a:solidFill>
                <a:latin typeface="Arial"/>
              </a:rPr>
              <a:t>Innovations in Cognitively Guided I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200" spc="-1" strike="noStrike">
                <a:solidFill>
                  <a:srgbClr val="000000"/>
                </a:solidFill>
                <a:latin typeface="Arial"/>
              </a:rPr>
              <a:t>By Susan B. Empson and Linda Lev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Reasoning about the unit….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even “units” plus 4 “units” gives 11 “unit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rade 2 </a:t>
            </a:r>
            <a:r>
              <a:rPr b="0" lang="en-CA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Grade 7 </a:t>
            </a:r>
            <a:r>
              <a:rPr b="0" lang="en-CA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Grade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70 + 40  </a:t>
            </a:r>
            <a:r>
              <a:rPr b="0" lang="en-CA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   +         </a:t>
            </a:r>
            <a:r>
              <a:rPr b="0" lang="en-CA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 7x+3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9533B-29A1-4289-9594-1263C9C93A3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1"/>
              <p:cNvSpPr txBox="1"/>
              <p:nvPr/>
            </p:nvSpPr>
            <p:spPr>
              <a:xfrm>
                <a:off x="3657600" y="4419720"/>
                <a:ext cx="21600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3"/>
              <p:cNvSpPr txBox="1"/>
              <p:nvPr/>
            </p:nvSpPr>
            <p:spPr>
              <a:xfrm>
                <a:off x="4419720" y="4419720"/>
                <a:ext cx="21564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1814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Reasoning about relationships…  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B3649-E33E-421B-8526-64F1544CA2D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5486400" y="1501920"/>
            <a:ext cx="3657600" cy="409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"/>
          <p:cNvPicPr/>
          <p:nvPr/>
        </p:nvPicPr>
        <p:blipFill>
          <a:blip r:embed="rId2"/>
          <a:stretch/>
        </p:blipFill>
        <p:spPr>
          <a:xfrm>
            <a:off x="4906800" y="4863960"/>
            <a:ext cx="3200400" cy="7527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05" name="TextBox 7"/>
          <p:cNvSpPr/>
          <p:nvPr/>
        </p:nvSpPr>
        <p:spPr>
          <a:xfrm>
            <a:off x="34920" y="3774960"/>
            <a:ext cx="4952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6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200" spc="-1" strike="noStrike">
                <a:solidFill>
                  <a:srgbClr val="000000"/>
                </a:solidFill>
                <a:latin typeface="Arial"/>
              </a:rPr>
              <a:t>Extending Children's Mathematics Fractions and Decimals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200" spc="-1" strike="noStrike">
                <a:solidFill>
                  <a:srgbClr val="000000"/>
                </a:solidFill>
                <a:latin typeface="Arial"/>
              </a:rPr>
              <a:t>Innovations in Cognitively Guided I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200" spc="-1" strike="noStrike">
                <a:solidFill>
                  <a:srgbClr val="000000"/>
                </a:solidFill>
                <a:latin typeface="Arial"/>
              </a:rPr>
              <a:t>By Susan B. Empson and Linda Lev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"/>
          <p:cNvPicPr/>
          <p:nvPr/>
        </p:nvPicPr>
        <p:blipFill>
          <a:blip r:embed="rId3"/>
          <a:stretch/>
        </p:blipFill>
        <p:spPr>
          <a:xfrm>
            <a:off x="228600" y="1501920"/>
            <a:ext cx="5619600" cy="122868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"/>
          <p:cNvSpPr/>
          <p:nvPr/>
        </p:nvSpPr>
        <p:spPr>
          <a:xfrm>
            <a:off x="5848200" y="1501920"/>
            <a:ext cx="2259000" cy="86040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5848200" y="4191120"/>
            <a:ext cx="2259000" cy="67284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Reasoning about Multiplication 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84120" y="18666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ink of “groups of” and repeated ad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x.  Multip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C4ADE-48C0-4D48-972D-36CB2C14C69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4"/>
              <p:cNvSpPr txBox="1"/>
              <p:nvPr/>
            </p:nvSpPr>
            <p:spPr>
              <a:xfrm>
                <a:off x="3174840" y="2895480"/>
                <a:ext cx="965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×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3" name="Cloud Callout 5"/>
          <p:cNvSpPr/>
          <p:nvPr/>
        </p:nvSpPr>
        <p:spPr>
          <a:xfrm>
            <a:off x="5410080" y="2590920"/>
            <a:ext cx="2895840" cy="1676160"/>
          </a:xfrm>
          <a:prstGeom prst="cloudCallout">
            <a:avLst>
              <a:gd name="adj1" fmla="val -85995"/>
              <a:gd name="adj2" fmla="val -416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x  groups of two and two third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Distributive Intui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43016-4A87-42F0-B39C-9C42DD96D93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Content Placeholder 4"/>
              <p:cNvSpPr txBox="1"/>
              <p:nvPr/>
            </p:nvSpPr>
            <p:spPr>
              <a:xfrm>
                <a:off x="322200" y="2770200"/>
                <a:ext cx="1663920" cy="15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×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17" name="Group 4"/>
          <p:cNvGrpSpPr/>
          <p:nvPr/>
        </p:nvGrpSpPr>
        <p:grpSpPr>
          <a:xfrm>
            <a:off x="4267080" y="2222640"/>
            <a:ext cx="4361040" cy="1981080"/>
            <a:chOff x="4267080" y="2222640"/>
            <a:chExt cx="4361040" cy="1981080"/>
          </a:xfrm>
        </p:grpSpPr>
        <p:sp>
          <p:nvSpPr>
            <p:cNvPr id="118" name="Rectangle 20"/>
            <p:cNvSpPr/>
            <p:nvPr/>
          </p:nvSpPr>
          <p:spPr>
            <a:xfrm>
              <a:off x="5721120" y="2957400"/>
              <a:ext cx="1447920" cy="228600"/>
            </a:xfrm>
            <a:prstGeom prst="rect">
              <a:avLst/>
            </a:prstGeom>
            <a:solidFill>
              <a:srgbClr val="4597a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Group 3"/>
            <p:cNvGrpSpPr/>
            <p:nvPr/>
          </p:nvGrpSpPr>
          <p:grpSpPr>
            <a:xfrm>
              <a:off x="4267080" y="2222640"/>
              <a:ext cx="4361040" cy="1981080"/>
              <a:chOff x="4267080" y="2222640"/>
              <a:chExt cx="4361040" cy="1981080"/>
            </a:xfrm>
          </p:grpSpPr>
          <p:sp>
            <p:nvSpPr>
              <p:cNvPr id="120" name="Rectangle 8"/>
              <p:cNvSpPr/>
              <p:nvPr/>
            </p:nvSpPr>
            <p:spPr>
              <a:xfrm>
                <a:off x="4267080" y="2222640"/>
                <a:ext cx="1447920" cy="228600"/>
              </a:xfrm>
              <a:prstGeom prst="rect">
                <a:avLst/>
              </a:prstGeom>
              <a:solidFill>
                <a:srgbClr val="4597a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9"/>
              <p:cNvSpPr/>
              <p:nvPr/>
            </p:nvSpPr>
            <p:spPr>
              <a:xfrm>
                <a:off x="5717880" y="2222640"/>
                <a:ext cx="1447920" cy="228600"/>
              </a:xfrm>
              <a:prstGeom prst="rect">
                <a:avLst/>
              </a:prstGeom>
              <a:solidFill>
                <a:srgbClr val="4597a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0"/>
              <p:cNvSpPr/>
              <p:nvPr/>
            </p:nvSpPr>
            <p:spPr>
              <a:xfrm>
                <a:off x="7166160" y="2224440"/>
                <a:ext cx="1447560" cy="2282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1"/>
              <p:cNvSpPr/>
              <p:nvPr/>
            </p:nvSpPr>
            <p:spPr>
              <a:xfrm>
                <a:off x="8148960" y="222408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4"/>
              <p:cNvSpPr/>
              <p:nvPr/>
            </p:nvSpPr>
            <p:spPr>
              <a:xfrm>
                <a:off x="4268520" y="2603520"/>
                <a:ext cx="1447920" cy="228600"/>
              </a:xfrm>
              <a:prstGeom prst="rect">
                <a:avLst/>
              </a:prstGeom>
              <a:solidFill>
                <a:srgbClr val="4597a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5"/>
              <p:cNvSpPr/>
              <p:nvPr/>
            </p:nvSpPr>
            <p:spPr>
              <a:xfrm>
                <a:off x="5719680" y="2603520"/>
                <a:ext cx="1447920" cy="228600"/>
              </a:xfrm>
              <a:prstGeom prst="rect">
                <a:avLst/>
              </a:prstGeom>
              <a:solidFill>
                <a:srgbClr val="4597a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6"/>
              <p:cNvSpPr/>
              <p:nvPr/>
            </p:nvSpPr>
            <p:spPr>
              <a:xfrm>
                <a:off x="7167960" y="2605320"/>
                <a:ext cx="1447560" cy="2282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7"/>
              <p:cNvSpPr/>
              <p:nvPr/>
            </p:nvSpPr>
            <p:spPr>
              <a:xfrm>
                <a:off x="8150400" y="260496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9"/>
              <p:cNvSpPr/>
              <p:nvPr/>
            </p:nvSpPr>
            <p:spPr>
              <a:xfrm>
                <a:off x="4275000" y="2954520"/>
                <a:ext cx="1446120" cy="228600"/>
              </a:xfrm>
              <a:prstGeom prst="rect">
                <a:avLst/>
              </a:prstGeom>
              <a:solidFill>
                <a:srgbClr val="4597a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1"/>
              <p:cNvSpPr/>
              <p:nvPr/>
            </p:nvSpPr>
            <p:spPr>
              <a:xfrm>
                <a:off x="7173360" y="2955600"/>
                <a:ext cx="1447560" cy="2282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2"/>
              <p:cNvSpPr/>
              <p:nvPr/>
            </p:nvSpPr>
            <p:spPr>
              <a:xfrm>
                <a:off x="8156880" y="2955960"/>
                <a:ext cx="45540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4"/>
              <p:cNvSpPr/>
              <p:nvPr/>
            </p:nvSpPr>
            <p:spPr>
              <a:xfrm>
                <a:off x="4275000" y="3289320"/>
                <a:ext cx="1446120" cy="228600"/>
              </a:xfrm>
              <a:prstGeom prst="rect">
                <a:avLst/>
              </a:prstGeom>
              <a:solidFill>
                <a:srgbClr val="4597a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"/>
              <p:cNvSpPr/>
              <p:nvPr/>
            </p:nvSpPr>
            <p:spPr>
              <a:xfrm>
                <a:off x="5726160" y="3289320"/>
                <a:ext cx="1447920" cy="228600"/>
              </a:xfrm>
              <a:prstGeom prst="rect">
                <a:avLst/>
              </a:prstGeom>
              <a:solidFill>
                <a:srgbClr val="4597a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6"/>
              <p:cNvSpPr/>
              <p:nvPr/>
            </p:nvSpPr>
            <p:spPr>
              <a:xfrm>
                <a:off x="7173360" y="3291120"/>
                <a:ext cx="1447560" cy="2282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7"/>
              <p:cNvSpPr/>
              <p:nvPr/>
            </p:nvSpPr>
            <p:spPr>
              <a:xfrm>
                <a:off x="8156880" y="3291120"/>
                <a:ext cx="45540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9"/>
              <p:cNvSpPr/>
              <p:nvPr/>
            </p:nvSpPr>
            <p:spPr>
              <a:xfrm>
                <a:off x="4267080" y="3668760"/>
                <a:ext cx="1447920" cy="228600"/>
              </a:xfrm>
              <a:prstGeom prst="rect">
                <a:avLst/>
              </a:prstGeom>
              <a:solidFill>
                <a:srgbClr val="4597a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Rectangle 30"/>
              <p:cNvSpPr/>
              <p:nvPr/>
            </p:nvSpPr>
            <p:spPr>
              <a:xfrm>
                <a:off x="5717880" y="3668760"/>
                <a:ext cx="1447920" cy="228600"/>
              </a:xfrm>
              <a:prstGeom prst="rect">
                <a:avLst/>
              </a:prstGeom>
              <a:solidFill>
                <a:srgbClr val="4597a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Rectangle 31"/>
              <p:cNvSpPr/>
              <p:nvPr/>
            </p:nvSpPr>
            <p:spPr>
              <a:xfrm>
                <a:off x="7166160" y="3670560"/>
                <a:ext cx="1447560" cy="2282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Rectangle 32"/>
              <p:cNvSpPr/>
              <p:nvPr/>
            </p:nvSpPr>
            <p:spPr>
              <a:xfrm>
                <a:off x="8148960" y="367056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Rectangle 34"/>
              <p:cNvSpPr/>
              <p:nvPr/>
            </p:nvSpPr>
            <p:spPr>
              <a:xfrm>
                <a:off x="4281120" y="3973680"/>
                <a:ext cx="1447920" cy="228600"/>
              </a:xfrm>
              <a:prstGeom prst="rect">
                <a:avLst/>
              </a:prstGeom>
              <a:solidFill>
                <a:srgbClr val="4597a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Rectangle 35"/>
              <p:cNvSpPr/>
              <p:nvPr/>
            </p:nvSpPr>
            <p:spPr>
              <a:xfrm>
                <a:off x="5732280" y="3973680"/>
                <a:ext cx="1447920" cy="228600"/>
              </a:xfrm>
              <a:prstGeom prst="rect">
                <a:avLst/>
              </a:prstGeom>
              <a:solidFill>
                <a:srgbClr val="4597a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Rectangle 36"/>
              <p:cNvSpPr/>
              <p:nvPr/>
            </p:nvSpPr>
            <p:spPr>
              <a:xfrm>
                <a:off x="7180560" y="3975480"/>
                <a:ext cx="1447560" cy="2282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Rectangle 37"/>
              <p:cNvSpPr/>
              <p:nvPr/>
            </p:nvSpPr>
            <p:spPr>
              <a:xfrm>
                <a:off x="8163000" y="39751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3" name="Cloud Callout 43"/>
          <p:cNvSpPr/>
          <p:nvPr/>
        </p:nvSpPr>
        <p:spPr>
          <a:xfrm>
            <a:off x="5665680" y="206280"/>
            <a:ext cx="2286000" cy="1766880"/>
          </a:xfrm>
          <a:prstGeom prst="cloudCallout">
            <a:avLst>
              <a:gd name="adj1" fmla="val -28240"/>
              <a:gd name="adj2" fmla="val 7685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6 groups of  2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Cloud Callout 44"/>
          <p:cNvSpPr/>
          <p:nvPr/>
        </p:nvSpPr>
        <p:spPr>
          <a:xfrm>
            <a:off x="6242040" y="4724280"/>
            <a:ext cx="2386080" cy="1219320"/>
          </a:xfrm>
          <a:prstGeom prst="cloudCallout">
            <a:avLst>
              <a:gd name="adj1" fmla="val 8379"/>
              <a:gd name="adj2" fmla="val -11260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6 groups of  2/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47"/>
          <p:cNvGrpSpPr/>
          <p:nvPr/>
        </p:nvGrpSpPr>
        <p:grpSpPr>
          <a:xfrm>
            <a:off x="3886200" y="1973160"/>
            <a:ext cx="3394080" cy="2594160"/>
            <a:chOff x="3886200" y="1973160"/>
            <a:chExt cx="3394080" cy="2594160"/>
          </a:xfrm>
        </p:grpSpPr>
        <p:sp>
          <p:nvSpPr>
            <p:cNvPr id="146" name="Oval 45"/>
            <p:cNvSpPr/>
            <p:nvPr/>
          </p:nvSpPr>
          <p:spPr>
            <a:xfrm>
              <a:off x="3886200" y="1973160"/>
              <a:ext cx="3394080" cy="2594160"/>
            </a:xfrm>
            <a:prstGeom prst="ellipse">
              <a:avLst/>
            </a:pr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Box 46"/>
            <p:cNvSpPr/>
            <p:nvPr/>
          </p:nvSpPr>
          <p:spPr>
            <a:xfrm>
              <a:off x="5045400" y="2517840"/>
              <a:ext cx="1424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6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51"/>
          <p:cNvGrpSpPr/>
          <p:nvPr/>
        </p:nvGrpSpPr>
        <p:grpSpPr>
          <a:xfrm>
            <a:off x="7124760" y="2100240"/>
            <a:ext cx="1386000" cy="2259000"/>
            <a:chOff x="7124760" y="2100240"/>
            <a:chExt cx="1386000" cy="2259000"/>
          </a:xfrm>
        </p:grpSpPr>
        <p:sp>
          <p:nvSpPr>
            <p:cNvPr id="149" name="Oval 49"/>
            <p:cNvSpPr/>
            <p:nvPr/>
          </p:nvSpPr>
          <p:spPr>
            <a:xfrm>
              <a:off x="7124760" y="2100240"/>
              <a:ext cx="1219320" cy="2259000"/>
            </a:xfrm>
            <a:prstGeom prst="ellipse">
              <a:avLst/>
            </a:pr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Box 50"/>
            <p:cNvSpPr/>
            <p:nvPr/>
          </p:nvSpPr>
          <p:spPr>
            <a:xfrm>
              <a:off x="7291440" y="2526120"/>
              <a:ext cx="1219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6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2"/>
          <p:cNvGrpSpPr/>
          <p:nvPr/>
        </p:nvGrpSpPr>
        <p:grpSpPr>
          <a:xfrm>
            <a:off x="-17640" y="1262160"/>
            <a:ext cx="4911840" cy="1030320"/>
            <a:chOff x="-17640" y="1262160"/>
            <a:chExt cx="4911840" cy="1030320"/>
          </a:xfrm>
        </p:grpSpPr>
        <p:sp>
          <p:nvSpPr>
            <p:cNvPr id="152" name="Cloud Callout 50"/>
            <p:cNvSpPr/>
            <p:nvPr/>
          </p:nvSpPr>
          <p:spPr>
            <a:xfrm>
              <a:off x="-17640" y="1262160"/>
              <a:ext cx="4911840" cy="1030320"/>
            </a:xfrm>
            <a:prstGeom prst="cloudCallout">
              <a:avLst>
                <a:gd name="adj1" fmla="val -13412"/>
                <a:gd name="adj2" fmla="val 11743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8"/>
            <p:cNvSpPr/>
            <p:nvPr/>
          </p:nvSpPr>
          <p:spPr>
            <a:xfrm>
              <a:off x="263160" y="1662120"/>
              <a:ext cx="1447920" cy="230040"/>
            </a:xfrm>
            <a:prstGeom prst="rect">
              <a:avLst/>
            </a:prstGeom>
            <a:solidFill>
              <a:srgbClr val="4597a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9"/>
            <p:cNvSpPr/>
            <p:nvPr/>
          </p:nvSpPr>
          <p:spPr>
            <a:xfrm>
              <a:off x="1714320" y="1662120"/>
              <a:ext cx="1447920" cy="230040"/>
            </a:xfrm>
            <a:prstGeom prst="rect">
              <a:avLst/>
            </a:prstGeom>
            <a:solidFill>
              <a:srgbClr val="4597a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10"/>
            <p:cNvSpPr/>
            <p:nvPr/>
          </p:nvSpPr>
          <p:spPr>
            <a:xfrm>
              <a:off x="3162240" y="1664640"/>
              <a:ext cx="144792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49"/>
            <p:cNvSpPr/>
            <p:nvPr/>
          </p:nvSpPr>
          <p:spPr>
            <a:xfrm>
              <a:off x="4159440" y="1665360"/>
              <a:ext cx="45720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7" name="Object 5"/>
              <p:cNvSpPr txBox="1"/>
              <p:nvPr/>
            </p:nvSpPr>
            <p:spPr>
              <a:xfrm>
                <a:off x="2209680" y="3289320"/>
                <a:ext cx="11638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Introduction to Area Model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rom Counting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roups / Arr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o Measur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imensions /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CEB32-2C8B-4DB3-A6C9-C27E8213775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5334120" y="1523880"/>
            <a:ext cx="2481120" cy="20383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"/>
          <p:cNvPicPr/>
          <p:nvPr/>
        </p:nvPicPr>
        <p:blipFill>
          <a:blip r:embed="rId2"/>
          <a:stretch/>
        </p:blipFill>
        <p:spPr>
          <a:xfrm>
            <a:off x="5529240" y="3809880"/>
            <a:ext cx="2090880" cy="1578240"/>
          </a:xfrm>
          <a:prstGeom prst="rect">
            <a:avLst/>
          </a:prstGeom>
          <a:ln w="0">
            <a:noFill/>
          </a:ln>
        </p:spPr>
      </p:pic>
      <p:sp>
        <p:nvSpPr>
          <p:cNvPr id="163" name="Cloud Callout 7"/>
          <p:cNvSpPr/>
          <p:nvPr/>
        </p:nvSpPr>
        <p:spPr>
          <a:xfrm>
            <a:off x="1600200" y="2751120"/>
            <a:ext cx="3243240" cy="811080"/>
          </a:xfrm>
          <a:prstGeom prst="cloudCallout">
            <a:avLst>
              <a:gd name="adj1" fmla="val 62888"/>
              <a:gd name="adj2" fmla="val -5568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4 + 4 + 4 =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Cloud Callout 11"/>
          <p:cNvSpPr/>
          <p:nvPr/>
        </p:nvSpPr>
        <p:spPr>
          <a:xfrm>
            <a:off x="1981080" y="4983120"/>
            <a:ext cx="3243240" cy="811080"/>
          </a:xfrm>
          <a:prstGeom prst="cloudCallout">
            <a:avLst>
              <a:gd name="adj1" fmla="val 62888"/>
              <a:gd name="adj2" fmla="val -5568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3 x 4  =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 </a:t>
            </a: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Choose your Teacher!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ick one person from your group to act as the “teacher” for the next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eachers go away to “prep” th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C4C65-BC58-4525-BA47-EFE21D23931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Question Stems for Student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s a group, come up with a set of question “stems” that you will use as students during the learning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rite your stems on a tent card at you table for quick re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6A0D2-C264-4EF0-9D17-FEF9521F692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Learning Activity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ork through the questions as a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actice Listening and Questioning to understand and build on each other’s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Students: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stening / questioning to lea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Teachers: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stening/questioning to understand and push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cord your thinking on chart 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733CD-7CDD-46A9-9FB4-EADE22B6CFA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ession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nts will have the opportunity to explore, practice, and discu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ening and questioning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ole of teachers and students in a learning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nection between number sense, fractions and alge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he area model supports math reas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3FCEA-3C2E-4728-8EE0-BD60977626F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tudent Instruc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1. Represent 144 using the base 10 blocks.  Show several different arrangement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Write equivalent expressions that reflect these arrang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2. Now suppose the big square represents 1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What do your arrangements illustrate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3. Now suppose the big square represents x</a:t>
            </a:r>
            <a:r>
              <a:rPr b="0" lang="en-CA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What do your arrangements repres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84CA4-BF98-4378-A45B-AEF6EB4076B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Consolidat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eacher consolidation or  Gallery W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8BC32-4538-40BB-AC7E-9FB5C25BF05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Exit Card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560" y="137124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Teachers: 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did you notice about listening / questioning while you were playing the role of the teac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Students: 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was your experience with listening / questioning while you were learn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Both: 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o you have any Lingering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ondering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73F50-EB7C-4822-B383-FF0C8AFF4DE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Group Norm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ideas will be listened to carefully and responded to respectfu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one will have a vo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questions and comments will be presented with the intent to move the collective forwa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rifying questions are welc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one will engage fully in the mo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CDEE4-30D3-4378-8D91-961D09F6F6F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ession Agenda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Listening : Why?  How? Wh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Learning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- fraction concepts and the area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- fractions and algebraic reas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165A0-E4F6-417D-87DD-A08FC4C6B3A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Classroom Vignett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39E59-F1E4-48D3-80AA-4E13A480401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atch this vid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erry Sienfeld teaches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nd th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Grade 8 : The Pythagorean relation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What do you Notice?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are the key differences between the two “class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AutoNum type="alphaU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is the role of the teac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AutoNum type="alphaU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is the role of the stu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C182C-2E66-4954-A2F9-419EC9ABE11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Math Talk Learning Community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ad the Research Synop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High light key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view the Action Traj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C9A3E-F0CD-4A00-9A55-893EB682B64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 </a:t>
            </a: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Wonder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is the role of Listening in a Learning Community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E8E34-C24A-4472-B6A3-5B72C402BB7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Interpretive Listening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3352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reate a Frayer Model for Interpretive Liste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231E5-A3F1-4A9B-AD62-BA6E6B56144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Canvas 1"/>
          <p:cNvGrpSpPr/>
          <p:nvPr/>
        </p:nvGrpSpPr>
        <p:grpSpPr>
          <a:xfrm>
            <a:off x="3105000" y="2170080"/>
            <a:ext cx="5486400" cy="3200400"/>
            <a:chOff x="3105000" y="2170080"/>
            <a:chExt cx="5486400" cy="3200400"/>
          </a:xfrm>
        </p:grpSpPr>
        <p:sp>
          <p:nvSpPr>
            <p:cNvPr id="75" name="Rectangle 16"/>
            <p:cNvSpPr/>
            <p:nvPr/>
          </p:nvSpPr>
          <p:spPr>
            <a:xfrm>
              <a:off x="3105000" y="2170080"/>
              <a:ext cx="5486400" cy="32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17"/>
            <p:cNvSpPr/>
            <p:nvPr/>
          </p:nvSpPr>
          <p:spPr>
            <a:xfrm>
              <a:off x="3390480" y="2427120"/>
              <a:ext cx="5124600" cy="28767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Straight Connector 18"/>
            <p:cNvSpPr/>
            <p:nvPr/>
          </p:nvSpPr>
          <p:spPr>
            <a:xfrm>
              <a:off x="5952960" y="2427120"/>
              <a:ext cx="0" cy="2876760"/>
            </a:xfrm>
            <a:prstGeom prst="line">
              <a:avLst/>
            </a:prstGeom>
            <a:ln w="255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Straight Connector 19"/>
            <p:cNvSpPr/>
            <p:nvPr/>
          </p:nvSpPr>
          <p:spPr>
            <a:xfrm>
              <a:off x="3390480" y="3865680"/>
              <a:ext cx="5124600" cy="0"/>
            </a:xfrm>
            <a:prstGeom prst="line">
              <a:avLst/>
            </a:prstGeom>
            <a:ln w="255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20"/>
            <p:cNvSpPr/>
            <p:nvPr/>
          </p:nvSpPr>
          <p:spPr>
            <a:xfrm>
              <a:off x="5362560" y="3379680"/>
              <a:ext cx="1123920" cy="9810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6"/>
            <p:cNvSpPr/>
            <p:nvPr/>
          </p:nvSpPr>
          <p:spPr>
            <a:xfrm>
              <a:off x="5314680" y="3560760"/>
              <a:ext cx="124776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Interpretive Listen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6"/>
            <p:cNvSpPr/>
            <p:nvPr/>
          </p:nvSpPr>
          <p:spPr>
            <a:xfrm>
              <a:off x="3390480" y="2427120"/>
              <a:ext cx="124776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Defini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6"/>
            <p:cNvSpPr/>
            <p:nvPr/>
          </p:nvSpPr>
          <p:spPr>
            <a:xfrm>
              <a:off x="7284960" y="2427120"/>
              <a:ext cx="124776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Characteristic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6"/>
            <p:cNvSpPr/>
            <p:nvPr/>
          </p:nvSpPr>
          <p:spPr>
            <a:xfrm>
              <a:off x="3390480" y="3865680"/>
              <a:ext cx="124776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Examp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6"/>
            <p:cNvSpPr/>
            <p:nvPr/>
          </p:nvSpPr>
          <p:spPr>
            <a:xfrm>
              <a:off x="7124760" y="3865680"/>
              <a:ext cx="139068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Non-Examp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Robin</cp:lastModifiedBy>
  <dcterms:modified xsi:type="dcterms:W3CDTF">2012-07-25T16:26:40Z</dcterms:modified>
  <cp:revision>57</cp:revision>
  <dc:subject/>
  <dc:title>&lt;Title&gt;</dc:title>
</cp:coreProperties>
</file>